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D570-3B27-43D6-B7A5-D5B14159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91120" y="266796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C807-BDD0-4307-A5B8-7C5712EC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9112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53400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EEF0-78D2-4A4E-9975-6711248F9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737320" y="175212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283160" y="175212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91120" y="266796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5737320" y="266796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283160" y="266796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2C6C-79E0-45D9-8FA9-DD874A2F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7EE9-9B70-4C76-89CB-94ACC47E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B481-1814-4240-AD7F-762A1430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FC5E-D5E5-4B7E-BAEC-25DE3097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DFE4-E202-4642-9F18-0DE31DA4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CE5F-FC58-4606-8935-BA3F6325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590920" y="780840"/>
            <a:ext cx="624816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621E-CE54-47D7-9FBA-1887A5DD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19112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8647-8248-4DAC-9CD3-02E5924D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BFB7-BC11-4752-B58D-1C02C24D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53400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7B62-F9F1-479B-8F33-CF35663B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191120" y="266796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FADD-166E-4C08-A009-AF702A07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91120" y="266796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FCC4-A626-4C0E-AAE3-9FD3F377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19112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3400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34B1-A5A4-41BF-ABA8-9E1BA149C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737320" y="175212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283160" y="175212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191120" y="266796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5737320" y="266796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7283160" y="266796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C2FD-E44F-43CD-9B90-C90E4F57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B33B-F49E-4765-A442-AE489A4C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7814-A3FE-4F79-92AB-82E72FBC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7535-DFBD-43D2-8D0C-D45F0A69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590920" y="780840"/>
            <a:ext cx="624816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2D66-FD7A-40FF-9DFD-CA01ED73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9112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49ED-E776-4C93-9F05-08C0FF70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3400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6D64-77A4-4632-B5A3-E7032AE0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91120" y="266796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3CC1-6761-4916-B52F-6F2ED4FD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6629400" y="6499080"/>
            <a:ext cx="2133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9999"/>
                </a:solidFill>
                <a:latin typeface="Arial"/>
              </a:rPr>
              <a:t>Terug naar eerste pagina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52280" y="55627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5866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218A-36F4-4567-B6AF-5270176E1989}" type="slidenum">
              <a:rPr b="0" lang="nl-NL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00120" y="170820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" name="">
            <a:hlinkClick r:id="" action="ppaction://hlinkshowjump?jump=firstslide"/>
          </p:cNvPr>
          <p:cNvSpPr/>
          <p:nvPr/>
        </p:nvSpPr>
        <p:spPr>
          <a:xfrm>
            <a:off x="6629400" y="6499080"/>
            <a:ext cx="19810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9999"/>
                </a:solidFill>
                <a:latin typeface="Arial"/>
              </a:rPr>
              <a:t>Terug naar eerste pagina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152280" y="5486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151920" y="57913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22B9-222E-42BA-9FE9-63125B3A70B5}" type="slidenum">
              <a:rPr b="0" lang="nl-NL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609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Comic Sans MS"/>
              </a:rPr>
              <a:t>Het Kasteel</a:t>
            </a:r>
            <a:r>
              <a:rPr b="1" lang="en-US" sz="4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3399"/>
                </a:solidFill>
                <a:latin typeface="Comic Sans MS"/>
              </a:rPr>
              <a:t>Wijche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437920" y="1828440"/>
            <a:ext cx="63248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66"/>
                </a:solidFill>
                <a:uFillTx/>
                <a:latin typeface="Comic Sans MS"/>
              </a:rPr>
              <a:t>2003</a:t>
            </a:r>
            <a:r>
              <a:rPr b="0" lang="en-US" sz="3000" spc="-1" strike="noStrike">
                <a:solidFill>
                  <a:srgbClr val="009999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Comic Sans MS"/>
              </a:rPr>
              <a:t>23 senioren, 40 jeugd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66"/>
                </a:solidFill>
                <a:uFillTx/>
                <a:latin typeface="Comic Sans MS"/>
              </a:rPr>
              <a:t>2006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Comic Sans MS"/>
              </a:rPr>
              <a:t>30 senioren, 47 jeugd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Comic Sans MS"/>
              </a:rPr>
              <a:t>Opkomst ALV </a:t>
            </a:r>
            <a:r>
              <a:rPr b="0" lang="en-US" sz="3000" spc="-1" strike="noStrike">
                <a:solidFill>
                  <a:srgbClr val="009999"/>
                </a:solidFill>
                <a:latin typeface="Symbol"/>
                <a:ea typeface="Symbol"/>
              </a:rPr>
              <a:t></a:t>
            </a:r>
            <a:r>
              <a:rPr b="0" lang="en-US" sz="3000" spc="-1" strike="noStrike">
                <a:solidFill>
                  <a:srgbClr val="009999"/>
                </a:solidFill>
                <a:latin typeface="Comic Sans MS"/>
              </a:rPr>
              <a:t> 90 %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Comic Sans MS"/>
              </a:rPr>
              <a:t>Goede dingen </a:t>
            </a: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behoude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2666880"/>
            <a:ext cx="601956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Zomerschaak in Café Anneke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Basisschool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chaaktoernooi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Schaken in de raadszaal van het Wijchens Kasteel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200602170034_ritchy" descr=""/>
          <p:cNvPicPr/>
          <p:nvPr/>
        </p:nvPicPr>
        <p:blipFill>
          <a:blip r:embed="rId1"/>
          <a:stretch/>
        </p:blipFill>
        <p:spPr>
          <a:xfrm>
            <a:off x="762120" y="747720"/>
            <a:ext cx="761976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200602170019_ritchy" descr=""/>
          <p:cNvPicPr/>
          <p:nvPr/>
        </p:nvPicPr>
        <p:blipFill>
          <a:blip r:embed="rId1"/>
          <a:stretch/>
        </p:blipFill>
        <p:spPr>
          <a:xfrm>
            <a:off x="762120" y="9097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200602182798_speelhoeve2" descr=""/>
          <p:cNvPicPr/>
          <p:nvPr/>
        </p:nvPicPr>
        <p:blipFill>
          <a:blip r:embed="rId1"/>
          <a:stretch/>
        </p:blipFill>
        <p:spPr>
          <a:xfrm>
            <a:off x="762120" y="581040"/>
            <a:ext cx="77724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200602170051_ritchy" descr=""/>
          <p:cNvPicPr/>
          <p:nvPr/>
        </p:nvPicPr>
        <p:blipFill>
          <a:blip r:embed="rId1"/>
          <a:stretch/>
        </p:blipFill>
        <p:spPr>
          <a:xfrm>
            <a:off x="762120" y="628560"/>
            <a:ext cx="761976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609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Comic Sans MS"/>
              </a:rPr>
              <a:t>Jeugdbeleidspla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437920" y="1980720"/>
            <a:ext cx="63248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Wie de jeugd heeft…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de toekoms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En…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goede jeugdleiders nodig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goede trainers nodig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enthousiaste ouders nodig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200602100129" descr=""/>
          <p:cNvPicPr/>
          <p:nvPr/>
        </p:nvPicPr>
        <p:blipFill>
          <a:blip r:embed="rId1"/>
          <a:stretch/>
        </p:blipFill>
        <p:spPr>
          <a:xfrm>
            <a:off x="838080" y="642960"/>
            <a:ext cx="746784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200511250001_ritchy" descr=""/>
          <p:cNvPicPr/>
          <p:nvPr/>
        </p:nvPicPr>
        <p:blipFill>
          <a:blip r:embed="rId1"/>
          <a:stretch/>
        </p:blipFill>
        <p:spPr>
          <a:xfrm>
            <a:off x="762120" y="681120"/>
            <a:ext cx="761976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200510210003_ritchy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772400" cy="52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609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Comic Sans MS"/>
              </a:rPr>
              <a:t>Visie op</a:t>
            </a:r>
            <a:r>
              <a:rPr b="1" lang="nl-NL" sz="4000" spc="-1" strike="noStrike">
                <a:solidFill>
                  <a:srgbClr val="003399"/>
                </a:solidFill>
                <a:latin typeface="Comic Sans MS"/>
              </a:rPr>
              <a:t> toekoms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437920" y="2133720"/>
            <a:ext cx="63248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Uitgangspunten 2006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Nivootje hoger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Juniorenbegeleiding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Training </a:t>
            </a:r>
            <a:r>
              <a:rPr b="0" lang="en-US" sz="2800" spc="-1" strike="noStrike">
                <a:solidFill>
                  <a:srgbClr val="009999"/>
                </a:solidFill>
                <a:latin typeface="Symbol"/>
                <a:ea typeface="Symbol"/>
              </a:rPr>
              <a:t>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 1700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Ouders stimulere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Moderne Schaakbon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Alert blijven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609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3399"/>
                </a:solidFill>
                <a:latin typeface="Comic Sans MS"/>
              </a:rPr>
              <a:t>Visie op toekoms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437920" y="1828440"/>
            <a:ext cx="63248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66"/>
                </a:solidFill>
                <a:latin typeface="Comic Sans MS"/>
              </a:rPr>
              <a:t>Uitgangspunten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 2003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9999"/>
                </a:solidFill>
                <a:latin typeface="Comic Sans MS"/>
              </a:rPr>
              <a:t>Bekendheid vergroten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9999"/>
                </a:solidFill>
                <a:latin typeface="Comic Sans MS"/>
              </a:rPr>
              <a:t>Betrokkenheid stimuleren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9999"/>
                </a:solidFill>
                <a:latin typeface="Comic Sans MS"/>
              </a:rPr>
              <a:t>Meer huisschakers binden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9999"/>
                </a:solidFill>
                <a:latin typeface="Comic Sans MS"/>
              </a:rPr>
              <a:t>Nivo verhogen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9999"/>
                </a:solidFill>
                <a:latin typeface="Comic Sans MS"/>
              </a:rPr>
              <a:t>Doorstroming jeugd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9999"/>
                </a:solidFill>
                <a:latin typeface="Comic Sans MS"/>
              </a:rPr>
              <a:t>Modernisering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609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mic Sans MS"/>
              </a:rPr>
              <a:t>Wat is er </a:t>
            </a:r>
            <a:r>
              <a:rPr b="1" lang="en-US" sz="3600" spc="-1" strike="noStrike">
                <a:solidFill>
                  <a:srgbClr val="ff0066"/>
                </a:solidFill>
                <a:latin typeface="Comic Sans MS"/>
              </a:rPr>
              <a:t>niet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</a:rPr>
              <a:t> gebeurd ?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437920" y="1904760"/>
            <a:ext cx="63248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Schaken overdag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Huisschakerstoernooi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Oudledentoernooi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Inlegbord op de mark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Damsectie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Samenwerking met buren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609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mic Sans MS"/>
              </a:rPr>
              <a:t>Wat is er </a:t>
            </a:r>
            <a:r>
              <a:rPr b="1" lang="en-US" sz="3600" spc="-1" strike="noStrike">
                <a:solidFill>
                  <a:srgbClr val="ff0066"/>
                </a:solidFill>
                <a:latin typeface="Comic Sans MS"/>
              </a:rPr>
              <a:t>wel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</a:rPr>
              <a:t>gebeurd ?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437920" y="1981080"/>
            <a:ext cx="6324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Jubilea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Flyers voor jong en ou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Pers en communicatie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E-mail, website, forum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Automatisering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200602170016_ritchy" descr=""/>
          <p:cNvPicPr/>
          <p:nvPr/>
        </p:nvPicPr>
        <p:blipFill>
          <a:blip r:embed="rId1"/>
          <a:stretch/>
        </p:blipFill>
        <p:spPr>
          <a:xfrm>
            <a:off x="990720" y="709560"/>
            <a:ext cx="739116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609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mic Sans MS"/>
              </a:rPr>
              <a:t>Wat is er </a:t>
            </a:r>
            <a:r>
              <a:rPr b="1" lang="en-US" sz="3600" spc="-1" strike="noStrike">
                <a:solidFill>
                  <a:srgbClr val="ff0066"/>
                </a:solidFill>
                <a:latin typeface="Comic Sans MS"/>
              </a:rPr>
              <a:t>wel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</a:rPr>
              <a:t>gebeurd ?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37920" y="1676520"/>
            <a:ext cx="632484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Sponsor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Nieuw materiaal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Demoborden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Reuzenschaakspel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Bibliotheek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Expositie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Euregiotoernooi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200602170149_ritchy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84872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609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mic Sans MS"/>
              </a:rPr>
              <a:t>Wat is er </a:t>
            </a:r>
            <a:r>
              <a:rPr b="1" lang="en-US" sz="3600" spc="-1" strike="noStrike">
                <a:solidFill>
                  <a:srgbClr val="ff0066"/>
                </a:solidFill>
                <a:latin typeface="Comic Sans MS"/>
              </a:rPr>
              <a:t>wel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</a:rPr>
              <a:t> gebeurd ?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437920" y="1828440"/>
            <a:ext cx="63248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Jeugdbeleidspla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Ouderavon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Doorstroming juniore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Aanwas seniore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Kadervorm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Training </a:t>
            </a:r>
            <a:r>
              <a:rPr b="0" lang="en-US" sz="2800" spc="-1" strike="noStrike">
                <a:solidFill>
                  <a:srgbClr val="009999"/>
                </a:solidFill>
                <a:latin typeface="Symbol"/>
                <a:ea typeface="Symbol"/>
              </a:rPr>
              <a:t>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 1700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Probleem van de week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Goede sfeer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200509300008" descr=""/>
          <p:cNvPicPr/>
          <p:nvPr/>
        </p:nvPicPr>
        <p:blipFill>
          <a:blip r:embed="rId1"/>
          <a:stretch/>
        </p:blipFill>
        <p:spPr>
          <a:xfrm>
            <a:off x="3886200" y="609480"/>
            <a:ext cx="427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4T09:03:00Z</dcterms:created>
  <dc:creator>Willem van Berkel</dc:creator>
  <dc:description/>
  <dc:language>en-US</dc:language>
  <cp:lastModifiedBy>willem van berkel</cp:lastModifiedBy>
  <dcterms:modified xsi:type="dcterms:W3CDTF">2006-02-25T07:39:16Z</dcterms:modified>
  <cp:revision>20</cp:revision>
  <dc:subject/>
  <dc:title>Visie op toekomst</dc:title>
</cp:coreProperties>
</file>