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B5A-45DF-41F4-845F-65336623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AF2-F2E6-425E-A6EF-080C749D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08F-E707-4934-A666-918B8291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E63-CD1D-4055-83AE-F31B4CC6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F9A9-53FE-417F-B0EF-10C64B0F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4B74-0B28-4078-9059-122ECAC4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B70-FD64-4EB3-8B5F-262D95D3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B2C5-DA64-4EF2-A5AF-D08CC525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761-D8A0-466C-B3C8-C247260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0920" y="780840"/>
            <a:ext cx="6248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B887-6763-46BC-976F-F86E2A6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C59B-6CF3-4628-B7A6-7088E851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22A-21A5-40E3-A416-CF8936A6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0EE4-ABDE-415F-BD58-B0677C8B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5E6F-5D3A-4A48-A1E0-03A10EE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9958-04BA-4A5D-97BB-BB55C98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BBC3-6E15-4A11-AAC3-425610C6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9100-81FA-4CA5-96CF-9823257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164-DCBF-46CB-9EAA-9004B142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049-9EB2-436B-B4D8-4A7A651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8AB-E8DC-4A5F-BF37-1E01461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90920" y="780840"/>
            <a:ext cx="6248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63D-FDD6-45FC-93AA-4CACE06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FDC-1BB7-4435-95E9-371506F8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79B-2009-45B0-A7FE-0711960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1A4-C2FA-4134-AD8E-31ABE71A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629400" y="6499080"/>
            <a:ext cx="213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9999"/>
                </a:solidFill>
                <a:latin typeface="Arial"/>
              </a:rPr>
              <a:t>Terug naar eerste pa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9DF-66A9-4A72-B882-F5928D681AD8}" type="slidenum">
              <a:rPr b="0" lang="nl-NL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780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629400" y="6499080"/>
            <a:ext cx="1981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9999"/>
                </a:solidFill>
                <a:latin typeface="Arial"/>
              </a:rPr>
              <a:t>Terug naar eerste pagin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0909-CCAB-4CA4-A832-4678B8D2E73C}" type="slidenum">
              <a:rPr b="0" lang="nl-NL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Het Kasteel</a:t>
            </a: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Wijche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7920" y="18284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2003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23 senioren, 40 jeugd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2006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30 senioren, 47 jeugd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Opkomst ALV </a:t>
            </a:r>
            <a:r>
              <a:rPr b="0" lang="en-US" sz="3000" spc="-1" strike="noStrike">
                <a:solidFill>
                  <a:srgbClr val="009999"/>
                </a:solidFill>
                <a:latin typeface="Symbol"/>
                <a:ea typeface="Symbol"/>
              </a:rPr>
              <a:t>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90 %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Goede dingen </a:t>
            </a: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behoude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2666880"/>
            <a:ext cx="60195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Zomerschaak in Café Anneke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Basisschool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chaaktoernoo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Schaken in de raadszaal van het Wijchens Kaste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00602170034_ritchy" descr=""/>
          <p:cNvPicPr/>
          <p:nvPr/>
        </p:nvPicPr>
        <p:blipFill>
          <a:blip r:embed="rId1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00602170019_ritchy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00602182798_speelhoeve2" descr=""/>
          <p:cNvPicPr/>
          <p:nvPr/>
        </p:nvPicPr>
        <p:blipFill>
          <a:blip r:embed="rId1"/>
          <a:stretch/>
        </p:blipFill>
        <p:spPr>
          <a:xfrm>
            <a:off x="762120" y="581040"/>
            <a:ext cx="7772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200602170051_ritchy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76197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Jeugdbeleidspla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437920" y="1980720"/>
            <a:ext cx="6324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Wie de jeugd heeft…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e toekoms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n…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goede jeugdleiders nodi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goede trainers nodi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nthousiaste ouders nodi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00602100129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4678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00511250001_ritchy" descr=""/>
          <p:cNvPicPr/>
          <p:nvPr/>
        </p:nvPicPr>
        <p:blipFill>
          <a:blip r:embed="rId1"/>
          <a:stretch/>
        </p:blipFill>
        <p:spPr>
          <a:xfrm>
            <a:off x="762120" y="681120"/>
            <a:ext cx="7619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00510210003_ritch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Comic Sans MS"/>
              </a:rPr>
              <a:t>Visie op</a:t>
            </a:r>
            <a:r>
              <a:rPr b="1" lang="nl-NL" sz="4000" spc="-1" strike="noStrike">
                <a:solidFill>
                  <a:srgbClr val="003399"/>
                </a:solidFill>
                <a:latin typeface="Comic Sans MS"/>
              </a:rPr>
              <a:t> toekoms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437920" y="2133720"/>
            <a:ext cx="63248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Uitgangspunten 2006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Nivootje hog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Juniorenbegeleid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Training </a:t>
            </a:r>
            <a:r>
              <a:rPr b="0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17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uders stimule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Moderne Schaakbon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lert blijve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3399"/>
                </a:solidFill>
                <a:latin typeface="Comic Sans MS"/>
              </a:rPr>
              <a:t>Visie op toekoms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37920" y="18284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Comic Sans MS"/>
              </a:rPr>
              <a:t>Uitgangspunten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2003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Bekendheid vergrot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Betrokkenheid stimuler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Meer huisschakers bind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Nivo verhogen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Doorstroming jeugd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Modernisering</a:t>
            </a: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niet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 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437920" y="1904760"/>
            <a:ext cx="63248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chaken overda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Huisschakerstoernoo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Oudledentoernoo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Inlegbord op de mark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amsecti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amenwerking met bure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wel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37920" y="1981080"/>
            <a:ext cx="6324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Jubile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Flyers voor jong en ou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Pers en communicati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-mail, website, forum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Automatisering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00602170016_ritchy" descr=""/>
          <p:cNvPicPr/>
          <p:nvPr/>
        </p:nvPicPr>
        <p:blipFill>
          <a:blip r:embed="rId1"/>
          <a:stretch/>
        </p:blipFill>
        <p:spPr>
          <a:xfrm>
            <a:off x="990720" y="709560"/>
            <a:ext cx="7391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wel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37920" y="1676520"/>
            <a:ext cx="632484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Sponsor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Nieuw materiaa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Demoborde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Reuzenschaakspe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Bibliotheek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xposit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Comic Sans MS"/>
              </a:rPr>
              <a:t>Euregiotoernoo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0602170149_ritch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Wat is er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wel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 gebeurd ?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7920" y="18284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Jeugdbeleidspla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Ouderavon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Doorstroming junio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Aanwas seniore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Kadervorm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Training </a:t>
            </a:r>
            <a:r>
              <a:rPr b="0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17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Probleem van de wee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Comic Sans MS"/>
              </a:rPr>
              <a:t>Goede sfe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0509300008" descr=""/>
          <p:cNvPicPr/>
          <p:nvPr/>
        </p:nvPicPr>
        <p:blipFill>
          <a:blip r:embed="rId1"/>
          <a:stretch/>
        </p:blipFill>
        <p:spPr>
          <a:xfrm>
            <a:off x="3886200" y="609480"/>
            <a:ext cx="427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09:03:00Z</dcterms:created>
  <dc:creator>Willem van Berkel</dc:creator>
  <dc:description/>
  <dc:language>en-US</dc:language>
  <cp:lastModifiedBy>willem van berkel</cp:lastModifiedBy>
  <dcterms:modified xsi:type="dcterms:W3CDTF">2006-02-25T07:39:16Z</dcterms:modified>
  <cp:revision>20</cp:revision>
  <dc:subject/>
  <dc:title>Visie op toekomst</dc:title>
</cp:coreProperties>
</file>